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1015-17A7-4A91-9517-47398DB69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47DB-956C-41A1-AB71-68984BA6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2EDD-02BF-4A0D-A696-CB33A61EF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336C-F497-4E38-9E68-F65B7B4D1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6105-DAD9-4B8D-A402-B795E634D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C29A-D0AD-40BD-A0A7-16C6E99D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87A7-D5C1-4FE5-93F1-F0957792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FA86-D958-4F9D-B4B5-AAAA5A44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3CB7-BF4D-4C1B-A33A-45E25F19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B5F7-1777-4D5A-A77D-D24CAB34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174A-9D50-49DB-91F9-E69EB59F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5601-DC8C-42A4-8B7C-0EB5140D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48D7-DDA3-4007-B835-BAFEF9B5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4968-F70D-4B57-88B7-B4CF9FDB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F24F-D399-4467-A456-ED9E79B3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33EF-A807-45C6-90BE-49F2407B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CD6A-2ED0-4BCB-8EAC-AFC879070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724C-63E1-48DA-9199-0DD0A85D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AD16-8A05-4804-BC33-56B6AD77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FCC2-E71D-4F70-8EB1-FC097B81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7A71-A40D-4C17-96B3-E42C1EC4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5D57-4386-43FF-8349-9FD8C5B9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17E4-A944-4AAD-973A-84DE4296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2624-2A07-4E68-B167-2449BE53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13D6-BE63-4EBE-8D50-34E693FC5E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3840-36CE-47B1-AF12-68F6A8EEE9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" Target="slide3.xml"/><Relationship Id="rId4" Type="http://schemas.openxmlformats.org/officeDocument/2006/relationships/slide" Target="slide8.xml"/><Relationship Id="rId5" Type="http://schemas.openxmlformats.org/officeDocument/2006/relationships/slide" Target="slide13.xml"/><Relationship Id="rId6" Type="http://schemas.openxmlformats.org/officeDocument/2006/relationships/slide" Target="slide18.xml"/><Relationship Id="rId7" Type="http://schemas.openxmlformats.org/officeDocument/2006/relationships/slide" Target="slide23.xml"/><Relationship Id="rId8" Type="http://schemas.openxmlformats.org/officeDocument/2006/relationships/slide" Target="slide4.xml"/><Relationship Id="rId9" Type="http://schemas.openxmlformats.org/officeDocument/2006/relationships/slide" Target="slide9.xml"/><Relationship Id="rId10" Type="http://schemas.openxmlformats.org/officeDocument/2006/relationships/slide" Target="slide14.xml"/><Relationship Id="rId11" Type="http://schemas.openxmlformats.org/officeDocument/2006/relationships/slide" Target="slide19.xml"/><Relationship Id="rId12" Type="http://schemas.openxmlformats.org/officeDocument/2006/relationships/slide" Target="slide24.xml"/><Relationship Id="rId13" Type="http://schemas.openxmlformats.org/officeDocument/2006/relationships/slide" Target="slide5.xml"/><Relationship Id="rId14" Type="http://schemas.openxmlformats.org/officeDocument/2006/relationships/slide" Target="slide10.xml"/><Relationship Id="rId15" Type="http://schemas.openxmlformats.org/officeDocument/2006/relationships/slide" Target="slide15.xml"/><Relationship Id="rId16" Type="http://schemas.openxmlformats.org/officeDocument/2006/relationships/slide" Target="slide20.xml"/><Relationship Id="rId17" Type="http://schemas.openxmlformats.org/officeDocument/2006/relationships/slide" Target="slide26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slide" Target="slide27.xml"/><Relationship Id="rId23" Type="http://schemas.openxmlformats.org/officeDocument/2006/relationships/slide" Target="slide7.xml"/><Relationship Id="rId24" Type="http://schemas.openxmlformats.org/officeDocument/2006/relationships/slide" Target="slide12.xml"/><Relationship Id="rId25" Type="http://schemas.openxmlformats.org/officeDocument/2006/relationships/slide" Target="slide17.xml"/><Relationship Id="rId26" Type="http://schemas.openxmlformats.org/officeDocument/2006/relationships/slide" Target="slide22.xml"/><Relationship Id="rId27" Type="http://schemas.openxmlformats.org/officeDocument/2006/relationships/slide" Target="slide28.xml"/><Relationship Id="rId2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5.xm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7.xml"/><Relationship Id="rId3" Type="http://schemas.openxmlformats.org/officeDocument/2006/relationships/slide" Target="slide37.xml"/><Relationship Id="rId4" Type="http://schemas.openxmlformats.org/officeDocument/2006/relationships/slide" Target="slide37.xml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ivics Goal 1 Jeopardy Review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hors - 3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was responsible for working out the details of the Bill of Rights and was known as the “Father of the Constitution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hors - 4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Treatise on Civil Governm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as borrowed from Declaration of Independe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hors - 5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was a New York newspaper publisher who went to jail to protect the freedom of the press in colonial tim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rticles of Confederation - 1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branch of government was nonexistent under the Articles of Confede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rticles of Confederation - 2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rebellion was one of several instances that proved the Articles to be too wea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rticles of Confederation - 3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of the power under the Articles of Confederation rested with the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rticles of Confederation - 4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gress did not have the power to do this under the Articles of Confeder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rticles of Confederation - 5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law, passed in 1787 under the Articles of Confederation, provided a process for territories to become sta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onstitutional Compromises – 100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hree-Fifths Compromise arose from debate over this issu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onstitutional Compromises - 200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reat Compromise was a halfway point between these two pla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oal 1 Jeopardy  </a:t>
            </a:r>
            <a:r>
              <a:rPr b="0" lang="en-US" sz="4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Round 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80880" y="1630440"/>
          <a:ext cx="8229600" cy="52275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glish Tradi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utho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rticles of Confeder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stitutional Compromi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lonists’ problem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3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4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5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6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7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8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9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10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11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12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13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14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15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16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17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18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19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20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21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22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23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24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25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26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27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onstitutional Compromises - 300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was finally added to the Constitution to pacify Anti-Federalists and ensure its ratification by at least 9 sta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onstitutional Compromises - 400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was created after debate raged over whether the people or their elected representatives should vote for the presid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onstitutional Compromises - 500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Compromise resulted from Southern distrust of Northern manufactur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lonists’ Problems - 1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resulted in the killing of several colonists on the Boston Comm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DAILY DOUBLE!!!!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lonists’ Problems Daily Doub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group was responsible for the Boston Tea Par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lonists’ Problems - 3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were passed to punish colonists for the Boston Tea Par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3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lonists’ Problems - 4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law prevented colonists from moving west of the Appalachian Mountai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lonists’ Problems - 5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colonial court orders allowing general searches were detested by the colonis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oal 1 Double Jeopard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57200" y="1752480"/>
          <a:ext cx="8229600" cy="48848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w Govern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lig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lf-govern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lavery and Servitu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ar and fight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nglish Tradition - 1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was a system of unwritten laws based on previous court decis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ew Government - 2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people were supporters of the new Constitution and a strong central govern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ew Government - 6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i-Federalists believed in this type of interpretation of the Constitu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ew Government – 1,0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treaty, recognizing American Independence, was ratified under the Articles of Confeder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lf-government - 2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was the first representative assembly set up in the English colonies in North Amer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lf-government - 6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document set up a direct democrac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lf-government – 1,0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was the first Colonial Constitu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2</a:t>
            </a:r>
            <a:r>
              <a:rPr b="0" lang="en-US" sz="3200" spc="-1" strike="noStrike" u="sng" baseline="30000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nd</a:t>
            </a:r>
            <a:r>
              <a:rPr b="0" lang="en-US" sz="3200" spc="-1" strike="noStrike" u="sng" baseline="30000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 Daily Double!!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lig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ritans, Pilgrims, Quakers, and Catholics were all examples of th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ligion - 6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wave of paranoia caused many Puritan leaders in this town to take part in the persecution of many falsely accused men and wom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ligion – 1,0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was a religious revival in colonial America led by Jonathan Edwar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nglish Tradition - 2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was the “Great Charter”, signed by King John, limiting the king’s pow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lavery and Servitude - 2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were people who signed a contract to work for someone for a specified amount of time in exchange for the payment of their trip to the New Worl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lavery and Servitude - 6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was the trip that many slaves were forced to take from Africa to the Amer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lavery and Servitude – 1,0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were the three end points of the Triangular Trade Rou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ar and Fighting - 2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“shot heard round the world” began this batt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ar and Fighting – 6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fight, from 1754 – 1763, was one of the long-term causes of the American Revolu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ar and Fighting – 1,0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ritish surrendered after a siege at this Virginia tow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inal Jeopard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were the two causes of Bacon’s Rebell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nglish Tradition - 3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was passed in 1688 following the Glorious Revolution.  It gave every citizen the right to a trial by jury and banned cruel and unusual punishme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nglish Tradition - 4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was a group of advisors that began meeting with the king regularly in the 1300s, eventually gre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nglish Tradition - 5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was the theory that a colony should help the mother country sell more goods than it buys (favorable balance of trad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hors - 1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man wrote the Declaration of Independ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hors - 2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man’s pamphlet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ommon Sens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convinced many people in the colonies that a complete break with  Great Britain was desira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3:27:01Z</dcterms:created>
  <dc:creator>Scruggs</dc:creator>
  <dc:description/>
  <dc:language>en-US</dc:language>
  <cp:lastModifiedBy>North Pitt High School</cp:lastModifiedBy>
  <dcterms:modified xsi:type="dcterms:W3CDTF">2006-09-13T12:15:18Z</dcterms:modified>
  <cp:revision>13</cp:revision>
  <dc:subject/>
  <dc:title>Civics Goal 1 Jeopardy Review</dc:title>
</cp:coreProperties>
</file>